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898-0008-4312-A922-E3AFD0E9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1FD-5660-42F0-93ED-7FEFF867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92C-9B9A-4C69-8F35-9AB27B4B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B1C2-D50C-46F2-AE8D-9C7EC65B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6FA8-DECD-4599-8D6A-50CD3949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0F23-CB43-44E1-9EC2-9C07AB17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82AA-85F9-487E-8EE1-8AC7BBD1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4E63-813B-4C04-AE4E-017EDFDB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B45D-82BE-4D0E-96E5-A4D200B0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F895-1A62-43D4-88BE-036C515B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0797-FA81-4448-B633-5BC7E0A0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FDB-527D-4EA9-950B-5C12853F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A641-623D-4E02-A99B-36D38C1B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AD3C-CCD4-4BBA-8F28-960F3FE8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6269-43D2-4CAC-AD09-787C1969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98B8-5C22-4330-900C-5FDF46FD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C2A4-AAE6-48B1-A5A5-845FA463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08C-CBAC-4CD6-A1F9-34DEFD2F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7AC-E3C2-42EC-BBFD-B2500CF7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DF1-8ECE-42B5-8B9B-4917072E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C78-9D16-4C59-9AE7-51A9178E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523-ECED-484D-976C-FB89BBE8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BAF-1E68-4717-89BE-5FD8732A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539-5DFF-4063-9633-3E30CB75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B967-B81A-4FDC-AFE2-B832B8CA9B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3264-4E43-470A-B617-914EF43C24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he French Revolutio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g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ake a position on the following statement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ue revolutionaries in history are not those who take up arms to fight the battles, but those who take up the pen to write new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e beginning of the end of the Ancien Regime (Old Regime)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Enlighten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all for the end of privile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all for the need of constit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nd of Absolut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itutional Mon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ber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gid social hierarc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all for separation of church from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all for a more inclusive political climate: plur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British Museum Picture"/>
          <p:cNvPicPr/>
          <p:nvPr/>
        </p:nvPicPr>
        <p:blipFill>
          <a:blip r:embed="rId1"/>
          <a:stretch/>
        </p:blipFill>
        <p:spPr>
          <a:xfrm>
            <a:off x="1371600" y="228600"/>
            <a:ext cx="5073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vernment spend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ravagant pala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ver ambitious wa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 Years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Rev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for tax reform was challeng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bl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asants and bourgeoi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1036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leadersh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uis the XVI was we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ed more about court life than his 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fe strongly influenced him (Marie Antoinet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nappy cartoons, nappy cartoon, nappy picture, nappy pictures, nappy image, nappy images, nappy illustration, nappy illustrations"/>
          <p:cNvPicPr/>
          <p:nvPr/>
        </p:nvPicPr>
        <p:blipFill>
          <a:blip r:embed="rId1"/>
          <a:stretch/>
        </p:blipFill>
        <p:spPr>
          <a:xfrm>
            <a:off x="1219320" y="304920"/>
            <a:ext cx="5248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supplied troops + materials to American Revolution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osure to revolutionary id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idea of a republ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beral freedoms for all m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king up of arms against tyran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20:57:03Z</dcterms:created>
  <dc:creator>PlouffeH</dc:creator>
  <dc:description/>
  <dc:language>en-US</dc:language>
  <cp:lastModifiedBy>hughp</cp:lastModifiedBy>
  <dcterms:modified xsi:type="dcterms:W3CDTF">2007-09-11T18:03:39Z</dcterms:modified>
  <cp:revision>5</cp:revision>
  <dc:subject/>
  <dc:title>The French Revolution</dc:title>
</cp:coreProperties>
</file>